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01B-1FE9-4110-B20E-94A32B56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6A8-FA66-421F-B9BD-DB8E606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181-2D28-4414-9B77-DFC50C86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4D6-84D5-4C82-A972-20B9A4FA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6F89C-0E93-4224-BE5C-F5315BA7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70E5-88EE-4F05-AA6B-250A953B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2BE6F-C433-4F7E-8059-2637C2E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7F9AA-F91D-4B27-9A47-64A13BB5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7E88A-6C3D-40D7-AA57-29A62A7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A15A-5CBE-4C4B-BBE2-6EB5686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7A94A-201B-4FE7-B0E5-A28F67E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12A-DDD6-420D-9695-F9AE44E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B42DA-1A63-4A01-B769-4C11A0A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5B46-7769-4438-ABD0-581C444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A9E31-F2C5-414A-BBC9-22FB080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0E8A1-D17E-4AE0-AD01-9DA39E33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69891-115C-4103-B254-3FBB80B2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840-9CC4-4302-A483-DF5126B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690-D727-4176-8F45-3E64B7C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CD8-9F89-4CD5-B81B-BFB0FC75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25A-6965-4DE0-8D66-56E860C2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BBC-C808-42A7-B182-D1E902F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B2E-7AFC-44FC-B97E-870C0BA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FB2-4FEE-4C01-B8D1-12767CD7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9FB-373E-4165-940A-1BB01555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61F-CDBF-4344-A179-514AEA6719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781840" cy="6630840"/>
          </a:xfrm>
          <a:prstGeom prst="rect">
            <a:avLst/>
          </a:prstGeom>
          <a:solidFill>
            <a:srgbClr val="7030a0"/>
          </a:solidFill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Organa genitalia masculina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organa genitalia masculina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xterna 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organa genitalia masculina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inter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2"/>
          <a:srcRect l="8268" t="0" r="39863" b="37746"/>
          <a:stretch/>
        </p:blipFill>
        <p:spPr>
          <a:xfrm>
            <a:off x="0" y="0"/>
            <a:ext cx="75531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rcRect l="7788" t="0" r="40822" b="38588"/>
          <a:stretch/>
        </p:blipFill>
        <p:spPr>
          <a:xfrm>
            <a:off x="179280" y="147600"/>
            <a:ext cx="74818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ahoma"/>
              </a:rPr>
              <a:t>Scrotu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Graphic14"/>
          <p:cNvPicPr/>
          <p:nvPr/>
        </p:nvPicPr>
        <p:blipFill>
          <a:blip r:embed="rId2"/>
          <a:stretch/>
        </p:blipFill>
        <p:spPr>
          <a:xfrm>
            <a:off x="1187280" y="1052640"/>
            <a:ext cx="55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638920" cy="6487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gana genitalia masculin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intern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cies medi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cies late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argo ant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xtremitas inf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xtremitas super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epididymis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argo post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escensus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gubernaculum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rocesus vaginalis peritone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uniculus spermaticu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vestigium processus vagina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raphic13"/>
          <p:cNvPicPr/>
          <p:nvPr/>
        </p:nvPicPr>
        <p:blipFill>
          <a:blip r:embed="rId2"/>
          <a:srcRect l="0" t="0" r="0" b="3909"/>
          <a:stretch/>
        </p:blipFill>
        <p:spPr>
          <a:xfrm>
            <a:off x="324000" y="189000"/>
            <a:ext cx="7262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Graphic14"/>
          <p:cNvPicPr/>
          <p:nvPr/>
        </p:nvPicPr>
        <p:blipFill>
          <a:blip r:embed="rId2"/>
          <a:srcRect l="0" t="0" r="0" b="967"/>
          <a:stretch/>
        </p:blipFill>
        <p:spPr>
          <a:xfrm>
            <a:off x="53964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828180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CS" sz="3600" spc="-1" strike="noStrike">
                <a:solidFill>
                  <a:srgbClr val="ffffff"/>
                </a:solidFill>
                <a:latin typeface="YUBaskerville"/>
              </a:rPr>
              <a:t>градја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везивно ткиво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tunica albugine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septula testi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c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)mediastinumtestis(Highmore)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паренхим тестиса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obuli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tubuli seminiferi contort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tubuli seminiferi rect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ductuli efferentes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rete testis (Haller)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interstitium testis (Leydi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8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48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Graphic15"/>
          <p:cNvPicPr/>
          <p:nvPr/>
        </p:nvPicPr>
        <p:blipFill>
          <a:blip r:embed="rId2"/>
          <a:stretch/>
        </p:blipFill>
        <p:spPr>
          <a:xfrm>
            <a:off x="539640" y="630360"/>
            <a:ext cx="645948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8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Testis 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/orchis/ (</a:t>
            </a:r>
            <a:r>
              <a:rPr b="0" lang="sr-CS" sz="4800" spc="-1" strike="noStrike">
                <a:solidFill>
                  <a:srgbClr val="ffffff"/>
                </a:solidFill>
                <a:latin typeface="YUBaskerville"/>
              </a:rPr>
              <a:t>семник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Graphic16"/>
          <p:cNvPicPr/>
          <p:nvPr/>
        </p:nvPicPr>
        <p:blipFill>
          <a:blip r:embed="rId2"/>
          <a:srcRect l="0" t="0" r="0" b="3945"/>
          <a:stretch/>
        </p:blipFill>
        <p:spPr>
          <a:xfrm>
            <a:off x="539640" y="785880"/>
            <a:ext cx="74613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356760"/>
            <a:ext cx="8781840" cy="6311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tunicae testi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омотачи тестис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tunica vaginalis tes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eritoneum parie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p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vaginalis)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lamina visce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lamia pariet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esorchium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) fascia spermatica in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fascia transvers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) m. cremaster et fascia cremasteric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. obliquus internus abdomin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) fascia spermatica ex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poneurosis m. obliqui externi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bdominis et fascia abdomi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ahoma"/>
              </a:rPr>
              <a:t>Organa genitalia masculina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4000" spc="-1" strike="noStrike">
                <a:solidFill>
                  <a:srgbClr val="ffffff"/>
                </a:solidFill>
                <a:latin typeface="YUBaskerville"/>
              </a:rPr>
              <a:t>полни органи мушкарца</a:t>
            </a:r>
            <a:r>
              <a:rPr b="0" lang="sr-CS" sz="4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Graphic13"/>
          <p:cNvPicPr/>
          <p:nvPr/>
        </p:nvPicPr>
        <p:blipFill>
          <a:blip r:embed="rId2"/>
          <a:stretch/>
        </p:blipFill>
        <p:spPr>
          <a:xfrm>
            <a:off x="1042920" y="1268280"/>
            <a:ext cx="5688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871056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Epididymi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caput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obuli coni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ductulus efferens test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corpus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cauda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заједно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- ductus epididym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Ductus deferen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600" spc="-1" strike="noStrike">
                <a:solidFill>
                  <a:srgbClr val="ffffff"/>
                </a:solidFill>
                <a:latin typeface="YUBaskerville"/>
              </a:rPr>
              <a:t>семевод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)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1) pars epididymi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2) pars funicular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3) pars ilia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4) pars pelvica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rcRect l="7788" t="0" r="37870" b="37746"/>
          <a:stretch/>
        </p:blipFill>
        <p:spPr>
          <a:xfrm>
            <a:off x="0" y="0"/>
            <a:ext cx="79167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0560" cy="6669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Funiculus spermaticus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YUBaskerville"/>
              </a:rPr>
              <a:t>семена врпца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):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ductus deferen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a. testicular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ars abdominalis aort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a. cremasteric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. epigastrica inferior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) a. ductus deferent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a. iliaca interna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) plexus pampiniform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vv. testiculare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) r. genitalis n. genitofemo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) p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testicular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l. deferenti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) vasa lymphatic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n.l. lumbale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179280" y="0"/>
            <a:ext cx="76294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56764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7) </a:t>
            </a:r>
            <a:r>
              <a:rPr b="1" lang="sr-Latn-CS" sz="4000" spc="-1" strike="noStrike">
                <a:solidFill>
                  <a:srgbClr val="ffffff"/>
                </a:solidFill>
                <a:latin typeface="Tahoma"/>
              </a:rPr>
              <a:t>Prostata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естења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ча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1) basis prostata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2) apex prostatae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3) facies anterior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 spatium retropubicum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4) facies posterior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fascia rectoprostat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eptum rectovesical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5) facies inferolaterales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- m. puboprostaticus 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(levator prostata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ahoma"/>
              </a:rPr>
              <a:t>Prostat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Graphic11"/>
          <p:cNvPicPr/>
          <p:nvPr/>
        </p:nvPicPr>
        <p:blipFill>
          <a:blip r:embed="rId2"/>
          <a:stretch/>
        </p:blipFill>
        <p:spPr>
          <a:xfrm>
            <a:off x="1187280" y="1268280"/>
            <a:ext cx="54738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71056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на свом проласку кроз простату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uctus ejaculatorius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је дели на режњеве</a:t>
            </a: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lobus mediu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lobus dexter et sinister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) isthmus prostata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710560" cy="6441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pars prostatic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ars intramur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ostium urethrae internum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patium profundum perine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olliculus seminali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utriculus prostaticus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ductus ejaculatorius dexter 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inus prostatic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ductuli prostatici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pars membranace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pars spongiosa urethra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orpus spongios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curvatura subpub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ahoma"/>
              </a:rPr>
              <a:t>Pars prostatica urethra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Graphic10"/>
          <p:cNvPicPr/>
          <p:nvPr/>
        </p:nvPicPr>
        <p:blipFill>
          <a:blip r:embed="rId2"/>
          <a:stretch/>
        </p:blipFill>
        <p:spPr>
          <a:xfrm>
            <a:off x="1547640" y="1357200"/>
            <a:ext cx="46324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6858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Organa genitalia masculina externa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Penis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a) glans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ostium urethrae externum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b) corpus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c) radix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preputium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frenulum preputii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tela subcutanea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ig. fundiforme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fascia penis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- lig. suspensorium pen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2"/>
          <a:srcRect l="7788" t="0" r="37870" b="37746"/>
          <a:stretch/>
        </p:blipFill>
        <p:spPr>
          <a:xfrm>
            <a:off x="0" y="0"/>
            <a:ext cx="79167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2"/>
          <a:srcRect l="7308" t="0" r="37537" b="38784"/>
          <a:stretch/>
        </p:blipFill>
        <p:spPr>
          <a:xfrm>
            <a:off x="-1440" y="0"/>
            <a:ext cx="802944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710560" cy="6630840"/>
          </a:xfrm>
          <a:prstGeom prst="rect">
            <a:avLst/>
          </a:prstGeom>
          <a:solidFill>
            <a:srgbClr val="7030a0"/>
          </a:solidFill>
          <a:ln w="9360">
            <a:solidFill>
              <a:srgbClr val="33cc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YUBaskerville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YUBaskerville"/>
              </a:rPr>
              <a:t>еректилна тела пениса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corpora cavernosa penis 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crura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corpus spongiosum penis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glans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bulbus pen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tunica albugin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rcRect l="10298" t="0" r="40970" b="38391"/>
          <a:stretch/>
        </p:blipFill>
        <p:spPr>
          <a:xfrm>
            <a:off x="250920" y="115920"/>
            <a:ext cx="71006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rcRect l="10113" t="0" r="39715" b="42721"/>
          <a:stretch/>
        </p:blipFill>
        <p:spPr>
          <a:xfrm>
            <a:off x="250920" y="260280"/>
            <a:ext cx="730224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496000" cy="66308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Urethra masculina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(pars spongiosa):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glandulae urethrales (Littre)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) fossa navicularis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- valvula fossae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navicularis (Guerin)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b) fossa bulbi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c) ostium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rethra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extern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09:13Z</dcterms:created>
  <dc:creator>Ucionica-6</dc:creator>
  <dc:description/>
  <dc:language>en-US</dc:language>
  <cp:lastModifiedBy>Anatomija 1</cp:lastModifiedBy>
  <dcterms:modified xsi:type="dcterms:W3CDTF">2011-09-02T06:37:05Z</dcterms:modified>
  <cp:revision>17</cp:revision>
  <dc:subject/>
  <dc:title>DIAPHRAGMA PELVIS. PERINEUM. FOSSA ISCHIO-ANALIS ET CANALIS PUDENDALIS. ORGANSKI I SUDOVNONERVNI PROSTOR. PODELA SUBPERITONEALNOG PROSTORA NA LOŽE. POLOŽAJ ORGANA U MUŠKOJ I ŽENSKOJ KARLICI. URETER (PARS PELVINA), VESICA URINARIA.</dc:title>
</cp:coreProperties>
</file>